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AEB-87A4-40F9-86B2-A52D848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277-B1AE-4C36-980E-7BD57403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501-AE24-48A3-B504-AEDFCA09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5F89-B233-4BC8-9536-AFF70CF3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794-984F-4338-B215-D6DE2906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DD3-E6E0-4A30-8848-20D976F2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84D-4ADD-4B62-879C-C6E9160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31C-A20C-4458-8C56-9C268104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74D-F03E-49F8-A1A3-623C8049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A9B-9B9E-4122-BFEB-C97A03A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6F5-EB17-4632-907D-A70B44F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4E3-04C8-43D0-98A2-161C461D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460C-9E4B-43E5-85A0-49354BCC2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illiam Pick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1910 –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404640"/>
            <a:ext cx="1440000" cy="1249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1762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illiam was born in 19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 attended school in Welling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pent one year at Canterbury Univer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Finished degree and PhD in Physics at the California Institute of Technology in 193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 specialised in electrical engine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00720" y="476280"/>
            <a:ext cx="78444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68360" y="404640"/>
            <a:ext cx="7844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ar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4:26:44Z</dcterms:created>
  <dc:creator>Preferred Customer</dc:creator>
  <dc:description/>
  <dc:language>en-US</dc:language>
  <cp:lastModifiedBy>Preferred Customer</cp:lastModifiedBy>
  <dcterms:modified xsi:type="dcterms:W3CDTF">2011-05-31T05:03:39Z</dcterms:modified>
  <cp:revision>4</cp:revision>
  <dc:subject/>
  <dc:title>William Pickering</dc:title>
</cp:coreProperties>
</file>